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33DE5-D52F-40C9-9B60-E47F68C4E0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70EBF-F1F4-421E-A1AC-3352234C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ED965C-8245-48A5-A8FE-025824C2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F066F4-5EA2-4E74-B69C-7D9428F9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42D3B1-CD43-4E4E-93AC-3E42FDC8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3A9D25-E218-4873-86F3-FE1118C3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13B4C1-DF97-4FAE-B982-0C46837D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960400-7B3D-4753-B15C-E00033AF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5DB7E3-DF8F-4D7A-B7E5-C1B44E3F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C00175-3269-4650-8624-956FE7A9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0ECC2A-AA61-4847-889E-46B92E3428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1CD6B-23C9-4004-8F1D-2B0BFB8173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BA8F2-B07F-4DA2-B939-88D5B31A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60D9E-E2EE-4C14-B526-609F71B3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7CC1F-EABB-4E34-92FE-E6AFC556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A5C25-1C90-472B-8955-FFE271BA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2FFC6-312A-46BE-B8B4-D5210ED0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FF9EA-6715-4BB1-A91A-6E6C3C0B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C2D45-81BE-4EB7-AE0E-52246291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A1528-A8F6-4849-8B4C-49E61D42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A4483-0442-4433-886F-09F771F5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E0055-8DFF-43C2-9924-BEDC6EA8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217EF-8FCF-4EA9-966E-8CE56E3E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C2ED6-F912-4977-9F49-64A92F4541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59D7D-E807-4924-A776-C9E155014B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AA1A2D-853B-4615-9EC4-27D2955B3A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0E7D06-A283-4BE7-B02D-CBFA24E5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26C3A7-6677-490A-B6D5-C7B48D8B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E4781B-25F5-444D-83C2-6F2CADD3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265A86-377B-462E-8E7C-71EC2CA1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D33234-4162-4248-B3A6-0C4FC4330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D31C9C-271F-4CE0-AA3B-6C72402C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73216E-400F-4A4B-B1F4-00EF5788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72C844-1AB1-4D34-B73E-17493BCB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70472-3575-4718-B6B2-5BEC36CF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85D52B-1F36-49AA-8DBF-E01CB34D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868CF8-0665-48B4-8661-2E4FC3A2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D61FA8-F2FC-413C-BC42-B262F44723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65B06-F9F3-4BC6-86AA-6989A0809E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C56756-92D2-42A6-ACDE-6654BB02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82BBEA-3821-4560-9FBF-EC614AF3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A05A2C-FADD-4D27-A6ED-5A30074C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FC3C6A-94A7-4A1E-8BE2-15A050E3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13326A-8F7D-4B9F-9026-E98BC845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A739D8-2F49-4035-8905-625F885F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EA4C1-F871-4AE3-B80A-650DF0D8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613AD-2252-4A7D-A00D-817228CD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B66699-54C5-4EB5-8E25-351CAED9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3DDFE0-269A-475B-BC7E-898053DD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2A6996-D00C-4688-9308-47864D96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256C6C-C209-47C4-A56A-C17BB3E93E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B54CE-AF79-4615-8D5F-1201E5A6F2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DB142-517F-441A-81E1-B5A636BB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71AE8-E6B4-4D7C-A5D4-8D300174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C9B56-287D-42A0-83BE-113759BF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77A92-C6F5-47EE-A133-2A211437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3B56D-A92D-44D3-BA06-BA0B4C8B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DF5B3-CCD1-4FD2-9BE9-B1AC36FBD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BB810-EE7E-43E0-B3F0-912B97D0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9B569-F126-49A0-ADF2-6E32CD62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615B6-A139-4163-BD36-350CAAFD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4B4E0-C485-4A34-AAB2-4E101EF6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43170-74A4-4966-B2B1-F82F061A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5C975-C276-41DC-9A98-9A6590107F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71E40-D6E4-49C7-99FC-07CB8B45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04E8B-1E34-4643-8D9F-192F18A5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9ED3C-C2EB-4AC4-AFA6-B54126A9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EA2E2-1692-493B-A7A2-E46C096B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37AEC-7ED9-4255-98BB-2326C69B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D7B02-E5B1-45D7-8F10-F9131567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63D89-FAB7-4194-A50C-9F642F29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2D7EB-DD1D-4262-85DA-2B7496D3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3283F-2E6C-4CDE-BCDA-61A302CB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7BB9C-BE0F-43C3-AE94-F5E01803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05209-F593-404A-951C-550234A8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40BAF-7629-4E82-9CFB-8F29E3DC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EB902-20E3-4460-A981-3BEB4C60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CE896-3E95-4433-BD5E-B2FFDC8C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90D8A-7024-4B52-BF32-EBF12443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5D5B4-FD54-4EFD-BDEF-14CA758C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A4297-F156-4A9F-88BA-849AAB08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2A6D1-CFCD-49F1-B2EF-8444CF5D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E8E39-A59E-4B3C-95AC-76EB5D63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DDB41-B018-4AC1-895E-5E9EA5F7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24F53-3501-4F42-8171-6BE62127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EE978-137A-4BA5-B0CD-6FE9DF21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C8A9E-7A36-4FD6-A6DC-B59149D0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6B425-A245-4F40-AF51-FFF5A550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24044-DA10-4385-BDAB-02BE62A0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D9BDE-548F-44CC-ADCD-50614F38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78A74-2565-4505-9735-1532CA47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7E990-06AA-4FB1-860C-080485DB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8BA32-9903-4343-B372-1FED08DF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375BA-43FB-41DC-9C35-7F1A6A05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0A7BA-F184-4102-8E77-77905109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FE9C5-F41E-47F5-99C4-FC3A7718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BC60E5-E9FD-4B29-A791-717D1C7B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2C7AD-0326-43DB-87B6-097E24B1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2FE06-3FC4-4628-B54B-8930B0EE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414CD-990C-46B5-960B-E03E833C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C6084-3E67-4612-8318-7A184E7E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BA115-2BA7-4797-97C3-F2279D49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88995-96AC-46E0-9E67-09EA09D7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3ECAF-6861-40E3-BEC4-24D195C6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A8064A-45FF-4C05-A861-E4D3DFDC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9E796A-F18B-4683-A1C5-ADBA548C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8D65C7-2516-48D9-B83B-BD36EC91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C5417C-D87B-41FD-9866-B60596D0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B17822-445A-4BD6-8E8A-DD38A8F7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091096-47B9-490F-A2C5-FF700C87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BCAFE6-5EB8-45E9-A6A3-DA8E7A58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61F53-EE60-4CF3-94A4-D36A7CB1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99E25-C8CD-44A7-BDD5-B3559E95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686672-2B94-4A32-A151-3814F00C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04B858-42C8-40B0-9266-921094C2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9E74F7-657C-46B7-A2EA-61F77E3B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1F032A-6FAF-4488-B376-C3F12045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6A5F5-6E88-4719-8082-857ABF6C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BD978B-29B8-4FFF-B2CE-7E78D15C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C78F8C-DADB-46CD-9A04-E4F3650D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E5BB5D-56A1-4B3F-A605-A11E4D8E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06F599-FF12-4ADE-9BFB-42BB345C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F0F9FE-86C2-41CF-8DA3-558F81DF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D3397-A438-4CAA-BA5C-4BD074C6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5E452A-11C7-484B-AD1C-A45DC63A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E7A0D9-7A54-46E9-81F0-98E782F8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47A0FE-C1AE-42A5-841B-ED0C80D1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3BDEC0-8AB1-4723-B403-10A3AA48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3E05DF-18BC-4701-B386-CAC92FC7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62CAB9-0314-41AE-B81B-C49B6AF3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400CCE-C233-42CC-B8E7-B9874599E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9C8884-1499-45B1-B145-0749D935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3D527B-D5C6-4022-A625-60C4A639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75A601-7A9D-4676-9135-183E7098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94C2D-1A9D-4BDE-A6BB-6C51E01A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63B8E3-F17E-49E4-B747-D87EF255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C29B5C-D303-4356-8475-AD02A8AC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A56992-90B1-472E-A5D5-0B49F6A3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40BE8A-F566-42A1-96DB-51D310F6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70D6A5-1D67-4F46-80E1-73C39CDA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86CA2C-EFFC-46B9-8447-FD245DBA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AB58B8-5A33-46E6-AFC6-37DB5F20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1DAE26-B4C9-4340-BEFB-521FA241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2D0801-6301-4B53-9657-3F9F2298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765FD1-C75B-4605-88B9-B2C12DBD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EB464-4DF5-4545-A643-09DD1C34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D1E3F2-533E-4EDF-ACB4-56923308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2BDAE1-3FE6-4F7F-B54F-ED16D54D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5CE300-9E6E-464E-9AF6-7ED497EA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D8B43F-DD1E-4C6D-A6A8-F37A773C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3D2237-8BB5-488B-A00C-2BEE160F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77A017-9B86-4653-A8A4-B568FE9C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B238C1-37A2-4B33-A239-95C66238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A15E74-18CC-478E-992E-1E775C88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B4EDAB-F538-462E-B3AE-05B247D7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9EF5BF-2BFF-4F30-8C04-1ABF7B49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E335D-E484-4AD3-B1C7-F6C54C18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DEB273-762B-4AD9-9062-52B325D1B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AFFBF2-F10B-460B-8D3B-A7D22E27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E95641-CDB3-4D3A-BA7C-B0661BED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4B1A1C-B817-4143-BA19-DAD8B35B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D9AC19-4CD0-4AA6-9EF2-0126DE3A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6DAC1B-4D0E-4A10-859F-49542A79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C0B804-FE75-4A30-BBA5-64B9115B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31D9A0-DD0F-41F6-9B44-45D9BD92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BF5DCC-D9BF-4BB0-B987-7D695603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E89925-9C09-4E23-9061-6B533647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6C303F-3F2C-459B-AF4F-3FBB8B658B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330F1E-DA02-4ECA-AC02-E04922D7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8AEFC0-20CF-40E4-8F22-1398733F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50265E-ED0C-4BB4-9E5E-CBF13F4A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047548-4FA5-4884-A937-7A40AC84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BD8C23-C5E7-4F27-A7E8-42342872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A4330F-4781-4BB6-8BD9-EE309CA0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C1D203-8B88-4451-B701-016A7D7D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9547DE-742E-4033-BB01-E2C2A737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967980-BBA0-4079-ADD7-4C236594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C5BC04-DBA3-4B41-86A8-5E2DB3E3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2A21DE-CEA3-433D-8A24-FE9E114C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005DA5-A487-4997-ADE9-0248C846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E0E4D7-2A4D-446A-9133-565600D5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41CE7A-F76D-4EEF-8429-59B67BE1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4D6F38-2A3A-4F23-92C7-DEB358CE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5E987A-52E4-4E26-8250-C78F25B7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BE30E0-77DC-4704-A665-FBAF9EFB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157435-6DEF-405F-88B7-091B1B6B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C8CC06-4500-4F44-9548-7EBE46A5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E98849-FEB5-4331-B9E2-CA9C79E6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D001D5-C13F-4034-8B1C-CB79B68A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E23AD3-7730-4161-B2FD-AEE9CE2D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4EA033-431F-4445-8F4C-2E5983F4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CC627A-571F-4FCE-9D8E-4E3D120A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C59D51-1F0D-4E39-82E9-0F6B60DC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7C4A40-D868-48ED-A25D-F08C1CA1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303FA2-49E9-4FB8-9A22-1E0106EF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94D98C-77E7-45A3-AE2A-28962060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42F923-71A3-483E-B146-1C31331E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36F35B-45BB-41B2-BFE6-F07B3D95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4B670D-774D-42F6-B6DC-1E52CC02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5EB0BF-2689-4535-813F-B57373EB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50CB55-9727-45A4-BD4A-F4531813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DDA9A0-09FE-4681-AB20-37D88928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F147D9-5D07-40A0-8FC4-E3AD0ADD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B16C2C-1FC3-4604-BC6B-5D972E9E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A0C950-A4BD-4AEF-9714-382CAF88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4A69BA-393A-4643-B91A-6D86AB6F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5651A5-6C1B-42F7-A8F4-8A9E22FE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09CF41-3134-474D-81DB-0D5E7A88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4F42B8-ED55-41D8-A185-9EA46F80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A4BF6E-035A-446D-8C33-B5DDECE6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FDF93E-6FA1-48B2-86E7-2F959718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F4D13-EE7A-4B31-B6EC-DDE9E58D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B2E114-07E4-439B-819E-046EBAB8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4F4B2D-E841-498D-B613-516EAFF1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76F5D5-79D2-485A-9905-BC980B15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53B3C1-35CE-4F1C-81C5-531A1096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9757AF-9B6C-4CB4-82D1-060E3C73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4BD971-053D-4D7F-A547-3147FFA8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0E8441-53C9-4397-80B2-ACD9E64500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4051D-49C4-486B-A411-BE16BC833A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2FE9F-8F95-4262-8499-D582FACE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D41EB-AD74-4233-8FFA-2233B693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74DCA-F372-4C44-A3D0-B7BE0B4C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96B94-ECF6-4C18-B78E-604A0DAD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9989B-1F1C-47C5-B961-B8C50A00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8302A-741D-4322-AE7F-0D6EB80C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E1F3B-98F8-42B7-8D6A-BE128EA3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E9B5B-7265-43EF-BA6E-DB4EAD68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636D8-AFFD-4D16-9D0E-5917D7F2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61065-AFBE-4BC2-8178-1BDF3C6B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E6FAF-B6B9-4149-98EC-5C31A533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131A7-6799-4ECA-81B0-E122934E2C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230080-12AD-4303-A41D-89B0FFD0D6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65392-B56F-48AA-B80D-B2528C7D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FC639C-054B-4057-8A30-EA1B41CF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5B9C07-1916-42ED-8527-E26B3913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3DF44B-F03C-41E5-A70A-366C4376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BD6042-2C30-44FB-AFE6-73630C9D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6CC287-EF50-46C9-BF5B-97125703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1926F6-B3C3-4409-AFE9-A2B5AA12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24BCB2-BA43-48C4-AE50-19B888DD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EE0A0A-9A98-4C61-91EC-1597D1FA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C2CB5B-AA8C-42D1-B340-C0B1209C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3035B1-ADF8-4B03-8FEF-F89B56AE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F8E6C-6D9F-4D18-93E4-72C3C1D7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A38866-3360-4983-844D-E65F251B14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A803DD-FD09-4D19-A479-4E01E2C409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BAD3BF-45A1-417D-AA0E-0C39C5C9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8D826D-3E46-4820-8EBA-F081CB21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36BD9F-4945-400B-AE07-C8230512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C3B709-5539-4582-816A-0BF419F6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F44DF8-289A-4FDD-8717-3D4D19F4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5BCAF0-7559-44A8-80D5-5E7BF80C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F4FE71-2DFD-482E-B748-35FDE166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71DE16-CCE5-4891-AAAD-78720F0F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FF2F3-5E18-4461-AA87-30AAD7B7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A2FF2E-90FB-4B55-99F9-79360148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1E04D0-A042-4643-907E-22F51165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695342-735D-4DC8-9734-BD4968886B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0191C-ECBC-40E4-A9DF-6EF7C51B9F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2BF5E-9F33-4B4D-B8B0-CD898D80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B7B92-E3DC-425E-A859-5F7EAD12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57E02-BA40-47BC-BE03-BA2DF18F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9A28B-1E0B-4B9D-B1FB-16E7DF70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17A47-4112-427C-9C0E-CAA5F94F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F400A-CDB5-4497-8AF0-8DDF58F8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98729-A381-4758-B9F5-B787496B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5A264-32E0-4B69-B468-CC11F516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AC459-3C79-4F91-B681-465D7774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BC87B-C9B9-47F2-AD34-DB4CB143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09789-8702-4583-AF10-26C27D0E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86940-87F4-41F9-9FAE-BA1E907FAB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53D630-96D3-4BE5-A44D-5845DCAC1A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E17651-2BDA-4B2B-8C7A-1DE9F582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9B9030-432B-4193-8E32-3F607D3C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038B7B-33B1-410E-9478-76712B2B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A86BA9-AD50-44A2-A027-AE554FB4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E71C0-A44D-495D-87C2-7A18D614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627768-B7B8-49AF-AA02-E61278ED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8A312C-6D05-4896-9FDC-121B5AB5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6597C0-1B19-46B0-8712-E635F02E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7319D9-1C2B-4179-BDD9-0FBB7E54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414F3F-0128-447B-A4AA-C135510F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E6A761-5CB0-4A68-9837-8FEC0C30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E959F4-17BF-4F36-BFE4-E20595F57B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4497BC-7B8F-491D-AFB8-256841A659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FC43F1-993F-40E5-B790-C02ACE34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C9BFAF-3858-4BD4-8815-35A0576E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5630-AD3A-4501-9DA1-FC9E443DE5E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6108-3256-45C4-9008-DB77C354184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8E2C-FFA6-44EF-B0CF-7538C809A2C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B149-4239-493C-B9A7-AFFD3DE76C4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82E6-4F85-4521-8D03-2E7502B54D8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6AA1-BACA-4D4F-A093-1F37F4ED722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5C42-A405-4521-95CA-DAD4C299655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7FA7-9BD3-4FF6-AC32-1443616F4B2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D222-5D26-4B4D-A9C6-DC5F757C7A2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5C90-4E35-48A8-82AF-B70389EE2BC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EF88-7F08-4AAF-9BB9-35A0BA28892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6D0C-965F-4AE1-AF5C-F870C7642B0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1BEE-21A1-4C68-8BD1-4257891A697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66D9-3188-423A-88D7-1C5B90744B1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CE61-EF27-4B90-8964-AE254B211D5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D0DA-F53F-4E4E-A6ED-70DDBDB12EA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9CB1-9DCC-4661-B6A7-C2FB0C93220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834A-1C87-490B-99A5-5A51309D93D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AA5E-CC4F-4B38-BBBF-7E07D59550F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F6DA-8825-4F77-A766-748EA1405AA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3C87-1070-45E3-8DE1-F8861780A7B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38E1-2372-48F4-AE55-5255691D447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FFD0-B582-447A-AB86-BC9BD7219E2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A894-BC12-4C98-86C6-CBF7D985C5F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3030480" y="2841480"/>
            <a:ext cx="558720" cy="46224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79864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练 习 课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82720" y="17445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 内 乘 法（二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-50760" y="87480"/>
            <a:ext cx="1909800" cy="527040"/>
            <a:chOff x="-50760" y="87480"/>
            <a:chExt cx="1909800" cy="527040"/>
          </a:xfrm>
        </p:grpSpPr>
        <p:pic>
          <p:nvPicPr>
            <p:cNvPr id="999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26280" y="87480"/>
              <a:ext cx="1832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-50760" y="182520"/>
              <a:ext cx="248760" cy="274680"/>
              <a:chOff x="-50760" y="182520"/>
              <a:chExt cx="248760" cy="274680"/>
            </a:xfrm>
          </p:grpSpPr>
          <p:sp>
            <p:nvSpPr>
              <p:cNvPr id="1001" name="椭圆 35"/>
              <p:cNvSpPr/>
              <p:nvPr/>
            </p:nvSpPr>
            <p:spPr>
              <a:xfrm rot="16200000">
                <a:off x="122760" y="311040"/>
                <a:ext cx="65520" cy="84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80" y="326160"/>
                <a:ext cx="149760" cy="12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37"/>
              <p:cNvSpPr/>
              <p:nvPr/>
            </p:nvSpPr>
            <p:spPr>
              <a:xfrm rot="16200000">
                <a:off x="122760" y="226800"/>
                <a:ext cx="65520" cy="84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15480" y="199080"/>
                <a:ext cx="149760" cy="12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44520"/>
                <a:ext cx="16200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12840"/>
                <a:ext cx="16200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14200"/>
                <a:ext cx="16200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48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162000" cy="112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矩形 2"/>
          <p:cNvSpPr/>
          <p:nvPr/>
        </p:nvSpPr>
        <p:spPr>
          <a:xfrm>
            <a:off x="897120" y="194796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×5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51"/>
          <p:cNvSpPr/>
          <p:nvPr/>
        </p:nvSpPr>
        <p:spPr>
          <a:xfrm>
            <a:off x="1714680" y="194796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矩形 4"/>
          <p:cNvSpPr/>
          <p:nvPr/>
        </p:nvSpPr>
        <p:spPr>
          <a:xfrm>
            <a:off x="2897280" y="194796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×7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矩形 5"/>
          <p:cNvSpPr/>
          <p:nvPr/>
        </p:nvSpPr>
        <p:spPr>
          <a:xfrm>
            <a:off x="4897440" y="194796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×8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矩形 6"/>
          <p:cNvSpPr/>
          <p:nvPr/>
        </p:nvSpPr>
        <p:spPr>
          <a:xfrm>
            <a:off x="6969240" y="194796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×9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矩形 7"/>
          <p:cNvSpPr/>
          <p:nvPr/>
        </p:nvSpPr>
        <p:spPr>
          <a:xfrm>
            <a:off x="897120" y="287640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×9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矩形 8"/>
          <p:cNvSpPr/>
          <p:nvPr/>
        </p:nvSpPr>
        <p:spPr>
          <a:xfrm>
            <a:off x="2897280" y="287640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×5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9"/>
          <p:cNvSpPr/>
          <p:nvPr/>
        </p:nvSpPr>
        <p:spPr>
          <a:xfrm>
            <a:off x="4897440" y="287640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×8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矩形 10"/>
          <p:cNvSpPr/>
          <p:nvPr/>
        </p:nvSpPr>
        <p:spPr>
          <a:xfrm>
            <a:off x="6969240" y="287640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9×8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51"/>
          <p:cNvSpPr/>
          <p:nvPr/>
        </p:nvSpPr>
        <p:spPr>
          <a:xfrm>
            <a:off x="3786120" y="194796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51"/>
          <p:cNvSpPr/>
          <p:nvPr/>
        </p:nvSpPr>
        <p:spPr>
          <a:xfrm>
            <a:off x="5715000" y="194796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51"/>
          <p:cNvSpPr/>
          <p:nvPr/>
        </p:nvSpPr>
        <p:spPr>
          <a:xfrm>
            <a:off x="7786800" y="194796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51"/>
          <p:cNvSpPr/>
          <p:nvPr/>
        </p:nvSpPr>
        <p:spPr>
          <a:xfrm>
            <a:off x="1714680" y="287640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51"/>
          <p:cNvSpPr/>
          <p:nvPr/>
        </p:nvSpPr>
        <p:spPr>
          <a:xfrm>
            <a:off x="3786120" y="287640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51"/>
          <p:cNvSpPr/>
          <p:nvPr/>
        </p:nvSpPr>
        <p:spPr>
          <a:xfrm>
            <a:off x="5715000" y="287640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51"/>
          <p:cNvSpPr/>
          <p:nvPr/>
        </p:nvSpPr>
        <p:spPr>
          <a:xfrm>
            <a:off x="7786800" y="287640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18"/>
          <p:cNvSpPr/>
          <p:nvPr/>
        </p:nvSpPr>
        <p:spPr>
          <a:xfrm>
            <a:off x="897120" y="387828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×9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19"/>
          <p:cNvSpPr/>
          <p:nvPr/>
        </p:nvSpPr>
        <p:spPr>
          <a:xfrm>
            <a:off x="2897280" y="387828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9×5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20"/>
          <p:cNvSpPr/>
          <p:nvPr/>
        </p:nvSpPr>
        <p:spPr>
          <a:xfrm>
            <a:off x="4897440" y="387828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8×4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21"/>
          <p:cNvSpPr/>
          <p:nvPr/>
        </p:nvSpPr>
        <p:spPr>
          <a:xfrm>
            <a:off x="6969240" y="3878280"/>
            <a:ext cx="9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9×6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51"/>
          <p:cNvSpPr/>
          <p:nvPr/>
        </p:nvSpPr>
        <p:spPr>
          <a:xfrm>
            <a:off x="1714680" y="387828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51"/>
          <p:cNvSpPr/>
          <p:nvPr/>
        </p:nvSpPr>
        <p:spPr>
          <a:xfrm>
            <a:off x="3786120" y="38782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51"/>
          <p:cNvSpPr/>
          <p:nvPr/>
        </p:nvSpPr>
        <p:spPr>
          <a:xfrm>
            <a:off x="5715000" y="38782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51"/>
          <p:cNvSpPr/>
          <p:nvPr/>
        </p:nvSpPr>
        <p:spPr>
          <a:xfrm>
            <a:off x="7786800" y="387828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26"/>
          <p:cNvSpPr/>
          <p:nvPr/>
        </p:nvSpPr>
        <p:spPr>
          <a:xfrm>
            <a:off x="571680" y="1376280"/>
            <a:ext cx="11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口算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矩形 1"/>
          <p:cNvSpPr/>
          <p:nvPr/>
        </p:nvSpPr>
        <p:spPr>
          <a:xfrm>
            <a:off x="285840" y="789120"/>
            <a:ext cx="85010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把口诀补充完整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四九（       ）       （       ）四十五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  ）七十二       六九（        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51"/>
          <p:cNvSpPr/>
          <p:nvPr/>
        </p:nvSpPr>
        <p:spPr>
          <a:xfrm>
            <a:off x="1628640" y="1552680"/>
            <a:ext cx="121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三十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51"/>
          <p:cNvSpPr/>
          <p:nvPr/>
        </p:nvSpPr>
        <p:spPr>
          <a:xfrm>
            <a:off x="4498920" y="1525680"/>
            <a:ext cx="121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五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51"/>
          <p:cNvSpPr/>
          <p:nvPr/>
        </p:nvSpPr>
        <p:spPr>
          <a:xfrm>
            <a:off x="1000080" y="2025720"/>
            <a:ext cx="121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八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51"/>
          <p:cNvSpPr/>
          <p:nvPr/>
        </p:nvSpPr>
        <p:spPr>
          <a:xfrm>
            <a:off x="5286240" y="2025720"/>
            <a:ext cx="121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五十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7"/>
          <p:cNvSpPr/>
          <p:nvPr/>
        </p:nvSpPr>
        <p:spPr>
          <a:xfrm>
            <a:off x="285840" y="2932200"/>
            <a:ext cx="85010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根据口诀，写出两个乘法算式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七九六十三            五九四十五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直接连接符 9"/>
          <p:cNvSpPr/>
          <p:nvPr/>
        </p:nvSpPr>
        <p:spPr>
          <a:xfrm>
            <a:off x="857160" y="4789440"/>
            <a:ext cx="1643040" cy="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直接连接符 11"/>
          <p:cNvSpPr/>
          <p:nvPr/>
        </p:nvSpPr>
        <p:spPr>
          <a:xfrm>
            <a:off x="4286160" y="4789440"/>
            <a:ext cx="1643040" cy="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直接连接符 14"/>
          <p:cNvSpPr/>
          <p:nvPr/>
        </p:nvSpPr>
        <p:spPr>
          <a:xfrm>
            <a:off x="857160" y="5575320"/>
            <a:ext cx="1643040" cy="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直接连接符 15"/>
          <p:cNvSpPr/>
          <p:nvPr/>
        </p:nvSpPr>
        <p:spPr>
          <a:xfrm>
            <a:off x="4286160" y="5575320"/>
            <a:ext cx="1643040" cy="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51"/>
          <p:cNvSpPr/>
          <p:nvPr/>
        </p:nvSpPr>
        <p:spPr>
          <a:xfrm>
            <a:off x="1000080" y="4240080"/>
            <a:ext cx="1571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×9=6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51"/>
          <p:cNvSpPr/>
          <p:nvPr/>
        </p:nvSpPr>
        <p:spPr>
          <a:xfrm>
            <a:off x="1000080" y="5075280"/>
            <a:ext cx="1571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×7=6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51"/>
          <p:cNvSpPr/>
          <p:nvPr/>
        </p:nvSpPr>
        <p:spPr>
          <a:xfrm>
            <a:off x="4357800" y="4240080"/>
            <a:ext cx="1571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×9=4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51"/>
          <p:cNvSpPr/>
          <p:nvPr/>
        </p:nvSpPr>
        <p:spPr>
          <a:xfrm>
            <a:off x="4357800" y="5075280"/>
            <a:ext cx="1571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×5=4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8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49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0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51" name="椭圆 52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2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椭圆 58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4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5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6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7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8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00:38:00Z</dcterms:created>
  <dc:creator/>
  <dc:description/>
  <dc:language>en-US</dc:language>
  <cp:lastModifiedBy>万润仪器贸易公司</cp:lastModifiedBy>
  <dcterms:modified xsi:type="dcterms:W3CDTF">2020-08-21T00:39:33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